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ct" ContentType="image/x-pict"/>
  <Override PartName="/ppt/media/image1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D8B0-337B-4869-9BD2-192A054F1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bioc208.blogspot.com/2009_11_01_archiv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shuttervoice.com/15497/sickle-cell-anemia-awareness-campaig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towler.com/taxonomy/term/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politicaltimes.org/img/original/DNA5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un.ca/biology/scarr/Ribose_suga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ous bases (purines &amp; pyrimid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.arizona.edu/biochemistry/problem_sets/large_molecules/06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roprofs.com/flashcards/cardshowall.php?title=exam-5-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.miami.edu/dana/250/250SS10_7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eautifulactivenourished.com/nutrition/combining-food-for-optimum-digestion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and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eltina.org/health-dictionary/rna-ribonucleic-acid-definition-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imple.wikipedia.org/wiki/File:ATP.jp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transcription/overview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hbrainsandbeauty.com/page/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ee also Figure 2 (p.40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octortee.com/dsu/tiftickjian/bio100/biol-molecul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cademic.pgcc.edu/~ssinex/blt/proteins/proteins.htm</a:t>
            </a:r>
            <a:br>
              <a:rPr sz="300"/>
            </a:b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show dehydration synthesis in formation of peptide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umass.edu/molvis/workshop/prot1234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02A-C56F-48B0-B6B9-B77126CA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00E-B4C8-4580-8E32-C74B6296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68F-6BB8-4924-9D66-E71D5945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E99-01E5-4E25-91B5-48154714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5BF-125C-42A3-8953-E4EC12EC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9DF-A235-45D9-9AB5-D3FB7B7A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4A6-44A2-4F1C-9AA9-07C46620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3A7-1676-4AA9-9B73-81154344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D3B-DB3D-4DBA-8D9C-DCA3D307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407-77BC-47E1-AC79-E15E5499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8E8-D04A-41EC-B940-04F02CBB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94E-6A87-4464-8766-6947049A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B2B6-FEE5-4CEC-AAB4-E80C54CFE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-ctkPUUpUc&amp;feature=channe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I4U - 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&amp; Nucle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Hemoglo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46440" y="1981080"/>
            <a:ext cx="544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NA mutation causes a change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amino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one of the 4 polypeptide chains of hemogl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71960" y="1981080"/>
            <a:ext cx="316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Den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to heat, radiation, changes in pH can cause bonds between amino acids to be disrupted, causing the shape of a protein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biologica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change is irreversible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g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nucleic acid (DNA) and ribonucleic acid (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nutrients, but are essential for all 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assembly &amp; heredita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 -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ic acids are polymer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oxyribose &amp; Rib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84280" y="1981080"/>
            <a:ext cx="617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2882880"/>
            <a:ext cx="77724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46160" y="1981080"/>
            <a:ext cx="524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are largely responsible for structural and functional characteristics of 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2657520"/>
            <a:ext cx="3809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70200" y="609480"/>
            <a:ext cx="5403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Nucleo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nosine triphosphate (ATP) is used to power reactions in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86280" y="1981080"/>
            <a:ext cx="297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gnition &amp; recep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zy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hain of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hain of 50+ a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and number of a.a. in a protein determines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structure of the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different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2763720"/>
            <a:ext cx="38098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ptide Bond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-ctkPUUpUc&amp;feature=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135160" y="1981080"/>
            <a:ext cx="48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te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2409840"/>
            <a:ext cx="77724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ote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teins also require non-protein “prosthetic groups” to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has 4 polypeptides, and 4 heme groups (each with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7:25Z</dcterms:created>
  <dc:creator>rubina khan</dc:creator>
  <dc:description/>
  <dc:language>en-US</dc:language>
  <cp:lastModifiedBy>rubina khan</cp:lastModifiedBy>
  <dcterms:modified xsi:type="dcterms:W3CDTF">2012-09-21T09:49:29Z</dcterms:modified>
  <cp:revision>184</cp:revision>
  <dc:subject/>
  <dc:title>Organic Chemistry</dc:title>
</cp:coreProperties>
</file>